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E77D-F328-406A-B002-4AAF2B26B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CDDE-A01B-4F02-859E-254D8213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CD71-0BD9-490A-9749-2B4701CF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CCCC-3CD3-4EB3-9993-C0E664A8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3E26-0CA0-459C-8BC8-B37C2ACD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5F74-429E-401F-8772-6C01FAD3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71B8-CF5E-44C2-B8B8-ABFCE07F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51D4-29F2-4E8A-9DF4-1FFED0DA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6D8A-2B65-42E0-83DC-4EEFD0BE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AF43-F6B9-46F7-962D-B8D41C6D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7127-8751-4A24-8D0E-7A3E180B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0787-8790-44BF-B883-0B27527E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2300-2B5A-45BF-893C-67883727D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Me llamo ___________ Clase 6nh (602)</a:t>
            </a:r>
            <a:br>
              <a:rPr sz="3800"/>
            </a:b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La fecha es el 21 de marzo del 20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991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52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estas ho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XT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Historieta 3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45 (1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Ser (to b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Estar (to b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20-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380880" y="3200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8:22:23Z</dcterms:created>
  <dc:creator>Helen Zumaeta</dc:creator>
  <dc:description/>
  <dc:language>en-US</dc:language>
  <cp:lastModifiedBy>Helen Zumaeta</cp:lastModifiedBy>
  <dcterms:modified xsi:type="dcterms:W3CDTF">2013-03-21T17:53:11Z</dcterms:modified>
  <cp:revision>18</cp:revision>
  <dc:subject/>
  <dc:title>Slide 1</dc:title>
</cp:coreProperties>
</file>